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0826-30B9-496B-B969-5EDD56E6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80E1-E95C-4928-873E-4C5AC9E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C2DA-F637-4CE8-B282-C7B31C65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AC60-74F2-439E-AB7C-F0C477CD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2E49-CB41-4030-BD21-8F810F80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DBFC-7253-4AE0-BF22-770F08B7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9DF2-417A-48E5-84E1-029CEA1B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F3E7-8A52-449E-9629-04D4E5C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F134-1CCA-4F87-B679-99E8EB26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7FD5-C25B-49EF-AB5B-13AFC824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D327-D24A-4743-B0E7-188F250A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2FEA-E0E7-44E2-9DBD-F239C16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72B9-A1BF-405E-98B4-245A836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EF50-E33C-46FB-9005-C4D5ACF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41E8-ABA5-4357-B7A7-446A48F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B55-90C5-4801-BA52-3038AAAD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00BC-664D-49AF-A48C-2E6A91F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9BFC-F348-48D4-A61B-0AF1B92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E376-7086-4551-8181-07603A2D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E4BB-1B77-401E-BC6D-57211E9F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038C-F464-4804-9CF3-5EBB8F29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36FB-98E9-470F-B954-A918B55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D2E4-F035-43E7-BB0D-935CF94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CC1B-4BC0-4F62-92F4-68A6BB43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592-A0D1-4D37-9E07-5FD4442D0D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DEA1-5AA6-4324-9ACA-687FBF206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e5e5ff"/>
                </a:solidFill>
                <a:latin typeface="Garamond"/>
              </a:rPr>
              <a:t>ŞCOALA GENERALĂ NR. 7</a:t>
            </a:r>
            <a:br>
              <a:rPr sz="5400"/>
            </a:br>
            <a:r>
              <a:rPr b="1" lang="ro-RO" sz="5400" spc="-1" strike="noStrike">
                <a:solidFill>
                  <a:srgbClr val="e5e5ff"/>
                </a:solidFill>
                <a:latin typeface="Garamond"/>
              </a:rPr>
              <a:t>TÂRGU JIU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aramond"/>
              </a:rPr>
              <a:t>Inst. Neamţu Cori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e5e5ff"/>
                </a:solidFill>
                <a:latin typeface="Garamond"/>
              </a:rPr>
              <a:t>Lumina este cea care poate influenţa culoare atât a plantelor cât şi a animalelor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Fiinţele vii şi mai ales omul , beneficiază de soare , deoarece pământul pe care-l locuiesc foloseşte energia solară pentru încălz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Şi pentru a avea un aer cât mai curat trebuie să avem cât mai multe plante în jurul nostru , deoarece ele se hrănesc că dioxidule de carbon pe care îl eliminăm noi atunci când respiră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Acum pentru că aţi aflat multe lucruri noi sper că veţi avea grijă  mai multă grijă de plantele şi animalele din jurul vostr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Îngrijind plantele şi ocrotindu-le vom avea un mediu natural mai curat şi în acelaşi timp mai fru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304920" y="-304920"/>
            <a:ext cx="9144000" cy="6858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33520" y="519120"/>
            <a:ext cx="36576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acă vă pasă,</a:t>
            </a: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haideţi alături de no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Împreună vom reuşi să păstrăm ceea ce Dumnezeu ne-a dărui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64832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Terra – eternul paradis al vieţi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400560" y="0"/>
            <a:ext cx="57434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867040"/>
            <a:ext cx="335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Fă-ţi timp acum, să şti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zadarnic ai să plângi ;</a:t>
            </a:r>
            <a:br>
              <a:rPr sz="3200"/>
            </a:b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Comoara risipit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a vieţii n-o mai strâng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7632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3399"/>
                </a:solidFill>
                <a:latin typeface="Tahoma"/>
              </a:rPr>
              <a:t>Fă-ţi timp s-asculţi la toa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3399"/>
                </a:solidFill>
                <a:latin typeface="Tahoma"/>
              </a:rPr>
              <a:t>din toate să înveţ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52578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99"/>
                </a:solidFill>
                <a:latin typeface="Tahoma"/>
              </a:rPr>
              <a:t>Rud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99"/>
                </a:solidFill>
                <a:latin typeface="Tahoma"/>
              </a:rPr>
              <a:t>Ki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04920"/>
            <a:ext cx="2438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Fă-ţi timp să dai vieţii adevăratul preţ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00560" y="0"/>
            <a:ext cx="574344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33680" y="2795760"/>
            <a:ext cx="33526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UNOAŞTREA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DIULUI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2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640" y="2543040"/>
            <a:ext cx="60487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influenţează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  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umina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ntele şi animalele?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2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667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ntr-o zi doi fraţi l-au rugat pe bunicul lor să le spună o poveste.Acesta le-a răspu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- Bine. Am să vă spn o poveste dacă voi îmi spuneţi unde există viaţ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ei doi copii au răspuns într-un glas:întot felul de plante şi anima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Bunicul le-a pus nepoţilor mai multe întrebăr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1792080" cy="327636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2057400" y="4114800"/>
            <a:ext cx="3914640" cy="1216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343400" y="1371600"/>
            <a:ext cx="167796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3548160"/>
            <a:ext cx="2782800" cy="33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9480" y="1905120"/>
            <a:ext cx="2743200" cy="1496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Animale domes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4952880" y="2438280"/>
            <a:ext cx="3969000" cy="441972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Animale sălba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1295280"/>
            <a:ext cx="3657600" cy="36165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733920" y="1523880"/>
            <a:ext cx="4599000" cy="4876920"/>
            <a:chOff x="3733920" y="1523880"/>
            <a:chExt cx="4599000" cy="48769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562720" y="1523880"/>
              <a:ext cx="277020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3733920" y="4343400"/>
              <a:ext cx="168588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2000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LEGU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428840" cy="159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971800" y="129528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238140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743200" y="3276720"/>
            <a:ext cx="155268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629400" y="2590920"/>
            <a:ext cx="155268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162920" y="480060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876920" y="4114800"/>
            <a:ext cx="1361880" cy="150480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Evaluare iniţial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animale domestice cunoaşteţ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animale sălbatice cunoaşteţ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are este deosebirea între animalele domestice şi cele sălbatic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foloase avem de la animalele domestic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are sunt părţile corpului unui animal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legume cultivăm în grădină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La ce folosim legumel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um folosim legumel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alte plante mai cunoaşteţ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La ce se folosesc plantele medicinal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um se pot folosi aceste plant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-Dragii mei nepoţi , voi ştiţi cum influenţează lumina plantele şi animalel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-Nu ştim , dar te rugăm frumos să ne spui şi nouă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Şi astfel bunicul a început să le spună copiilor multe lucruri noi care pentru ei erau adevărate poveş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,, Încă din cele mai vechi timpuri oamenii au observat că plantele nu cresc bine la întuneric şi de aceea ei încearcă să le asigure cât mai multă căldură şi lumin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Lumina influenţează creşterea şi forma plantel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Plantele verzi crescute la întuneric au o tulpină lungă şi subţire , frunzele slab detvoltate şi o culoare alb-gălbuie.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De asemenea trebuie să ştiţi că lumina le ajută pe animale să se orienteze în spaţiu şi să reacţioneze la schimbările ce se produc în mediul înconjurăt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3:35:08Z</dcterms:created>
  <dc:creator>CATALINA</dc:creator>
  <dc:description/>
  <dc:language>en-US</dc:language>
  <cp:lastModifiedBy>CATALINA</cp:lastModifiedBy>
  <dcterms:modified xsi:type="dcterms:W3CDTF">2008-05-15T04:56:38Z</dcterms:modified>
  <cp:revision>15</cp:revision>
  <dc:subject/>
  <dc:title>Slide 1</dc:title>
</cp:coreProperties>
</file>